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CFC5-65AE-4403-973A-1CA605607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358-0429-47FB-889F-317C35834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6431B-E9E8-4FCC-AAB2-3C051F977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A659-CC66-4A9C-B80C-05A85BC15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DBFE-4749-4A98-ACA0-BEEE4EAB2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DA49-BD1E-4096-98E4-E508E112D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E991-D1B4-4E2A-902E-5A3AFB885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3724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74120" y="12193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3724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74120" y="3782520"/>
            <a:ext cx="279684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8BE9-4168-447F-A722-459A37EED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5607-DB26-4EA1-B05C-4D82532DB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95D0-EFCE-4354-9E7B-36E3D2C6C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77F3-0DDD-4EAF-A13F-64E93CBDC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9FEF7-CA3D-48F3-BAE8-5AA4187C7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51400" y="37825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D2E2-4191-413D-9D17-E3DC109B4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51400" y="1219320"/>
            <a:ext cx="42390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82520"/>
            <a:ext cx="8686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1F8CA-F4A5-48BA-ADB5-CEBE176B7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Round Single Corner Rectangle 6"/>
          <p:cNvSpPr/>
          <p:nvPr/>
        </p:nvSpPr>
        <p:spPr>
          <a:xfrm>
            <a:off x="0" y="6400800"/>
            <a:ext cx="8305920" cy="45720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0" y="1143000"/>
            <a:ext cx="830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9053-4336-4D7E-8879-2BFD0F229B9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1423905857_large.jpg"/>
          <p:cNvPicPr/>
          <p:nvPr/>
        </p:nvPicPr>
        <p:blipFill>
          <a:blip r:embed="rId3"/>
          <a:srcRect l="36372" t="40162" r="56069" b="11634"/>
          <a:stretch/>
        </p:blipFill>
        <p:spPr>
          <a:xfrm>
            <a:off x="8763120" y="2666880"/>
            <a:ext cx="380880" cy="3124440"/>
          </a:xfrm>
          <a:prstGeom prst="rect">
            <a:avLst/>
          </a:prstGeom>
          <a:ln w="0">
            <a:noFill/>
          </a:ln>
        </p:spPr>
      </p:pic>
      <p:sp>
        <p:nvSpPr>
          <p:cNvPr id="9" name="Text Box 11"/>
          <p:cNvSpPr/>
          <p:nvPr/>
        </p:nvSpPr>
        <p:spPr>
          <a:xfrm>
            <a:off x="8250840" y="38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Round Single Corner Rectangle 6"/>
          <p:cNvSpPr/>
          <p:nvPr/>
        </p:nvSpPr>
        <p:spPr>
          <a:xfrm flipH="1">
            <a:off x="4876200" y="6324480"/>
            <a:ext cx="4267080" cy="533520"/>
          </a:xfrm>
          <a:prstGeom prst="pie">
            <a:avLst/>
          </a:prstGeom>
          <a:solidFill>
            <a:srgbClr val="598428"/>
          </a:solidFill>
          <a:ln w="25560">
            <a:solidFill>
              <a:srgbClr val="598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693432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REH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1447920" cy="1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1423905857_large.jpg"/>
          <p:cNvPicPr/>
          <p:nvPr/>
        </p:nvPicPr>
        <p:blipFill>
          <a:blip r:embed="rId4"/>
          <a:srcRect l="12127" t="39980" r="64650" b="11429"/>
          <a:stretch/>
        </p:blipFill>
        <p:spPr>
          <a:xfrm>
            <a:off x="0" y="1219320"/>
            <a:ext cx="1752480" cy="472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1423905857_large.jpg"/>
          <p:cNvPicPr/>
          <p:nvPr/>
        </p:nvPicPr>
        <p:blipFill>
          <a:blip r:embed="rId5"/>
          <a:srcRect l="32739" t="23199" r="0" b="63421"/>
          <a:stretch/>
        </p:blipFill>
        <p:spPr>
          <a:xfrm>
            <a:off x="6858000" y="304920"/>
            <a:ext cx="2193840" cy="561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" descr="1423905857_large.jpg"/>
          <p:cNvPicPr/>
          <p:nvPr/>
        </p:nvPicPr>
        <p:blipFill>
          <a:blip r:embed="rId6"/>
          <a:srcRect l="36372" t="40162" r="16667" b="11634"/>
          <a:stretch/>
        </p:blipFill>
        <p:spPr>
          <a:xfrm>
            <a:off x="6781680" y="23623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24382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cel Tutorial 1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anding Excel with Visual Basic for Applic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Sub Proced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489-0E5B-46B0-922D-82E91B7F1ED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038240" y="2643120"/>
            <a:ext cx="6610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is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-oriented programming 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n which tasks are performed by manipulating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4891-BB78-4DFC-97C4-7F72CC415FC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2961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s are often grouped into collections, which are themselves objects,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ection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F3A5-905E-46BA-8E34-E48D8859F9E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334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BA organizes objects and object collections in a hierarchy with the Excel application at the top and the individual cells of a workbook at the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C02-3145-4937-B5C3-9EFEEE40E49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6753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ring to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C149-34AF-4CBC-9C46-0FFB1BB3896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62040" y="2195640"/>
            <a:ext cx="736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ying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ction that can be performed on an object, such as closing a workbook or printing the contents of a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5AE-02CA-4063-8211-5807CCF3BFCF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277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Variables and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named element in a program that can be used to store and retriev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variable is identified by a uniqu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riable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m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A87E-CE66-4C7E-9348-D0CB8B0220D0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2961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rieving Information from the U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B7E-C07F-4A45-AC10-B7051BCA10B1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790560" y="2459160"/>
            <a:ext cx="7105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901-D6B7-4461-A406-67C8113CEAE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681120" y="1839960"/>
            <a:ext cx="7324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7D8-8453-4F0B-960E-B554487D1855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104840" y="2376360"/>
            <a:ext cx="64771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macro using the macro rec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the Project Explorer and Properties window of the VBA Ed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it a sub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a sub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VBA objects, properties, and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 input box to retrieve information from the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518A-7C03-4120-9C3C-1B8F5AF0F48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5DB-F41B-42F4-80DE-4F11E73DEE4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19240" y="1862280"/>
            <a:ext cx="6448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Conditional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C19-BD12-4D2F-AE3D-C5A565D7BB6A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952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2209680" y="3886200"/>
            <a:ext cx="5810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ating a Message Bo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sgBox Prompt, Buttons,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7B1B-16F6-48CB-AFAC-257B627641B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115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the Quick Access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ffice Button, and then click Excel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Customize in the Excel Options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Customize Quick Access Toolbar arrow, and select whether to customize the toolbar for all documents or a specific work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dd a command to the Quick Access Toolbar, click the command in the left list box, and then click the Add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remove a command from the Quick Access Toolbar, click the command in the right list box, and then click the Remove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he OK 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6A03-DF7B-4709-B794-364A9E6DBE5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the Quick Access Toolb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9A2C-EB3E-4990-98FA-979C5BC4DC4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23840" y="1601640"/>
            <a:ext cx="6639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izing Excel Screen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 screen elements fall into three general categories with elements that are: (1) part of the Excel program, (2) part of the Excel workbook window, and (3) part of the Excel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46F5-A700-4F4F-8444-B77427556A7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5043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el Customization Op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03CE-8A4E-44D3-897D-4A3AF152429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704880" y="2144880"/>
            <a:ext cx="72770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Save As PDF Add-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DF (Portable Document Forma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file format developed by Adobe Systems that supports all of the elements of a printed document but in an electronic format that is easily sha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-in available from microsof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860F-C7AE-4FE4-8E4B-B625C4E6324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nd run If-Then control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with comparison and logical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message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 the Quick Access Tool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tomize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B39-4D4D-4371-9361-FDEBCB765E26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ing an Excel 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C94-EBF1-4473-97B1-BB81C0DC162E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Excel Developer tab is not on the Ribbon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fice Butt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l Op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, click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pul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Excel Options dialog box (if necessary)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how Develop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 i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bb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heck box to insert a check mark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Code group on the Developer tab,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cro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cro name in the Macro name box, if necessary, and then click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d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A0A0-39BB-4B51-8A6A-8F65B1AE690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914400" y="3298680"/>
            <a:ext cx="6400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collection of macros, worksheets, data-entry forms, and other items that make up the customized application you’re trying to cre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Explor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window in the Visual Basic Editor that displays a hierarchical list of all currently open projects and their cont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ject Explorer window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ck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y element within the Excel working environment such as a worksheet, cell, workbook, or even Excel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E8F-2097-4E2A-8628-1765C05EC6C7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er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attribute of an object that defines one of its characteristics, such as its name, size, color, or location on the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view a list of properties for any object in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perties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u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collection of VBA mac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de windo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plays the VBA macro code associated with any item in Project Explo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FB4-A914-4A5A-A626-48054EC4E309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the Visual Basic Ed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75F-F2B4-4692-95C1-BDDEC6829C1C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809640" y="2030400"/>
            <a:ext cx="7067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with Sub Proced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 proced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s an action on your project or workbook, such as formatting a cell or displaying a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erty proced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to create custom properties for the objects in your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ta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ers to the set of rules that specify how you must enter certain commands so that VBA interprets them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statement that describes the behavior or purpose of a procedure, but does not perform any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400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ew Perspectives on Microsoft Office Exc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6DF-F556-4395-801F-4379DCDB6B38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9T21:35:42Z</dcterms:created>
  <dc:creator>Course Technology</dc:creator>
  <dc:description/>
  <dc:language>en-US</dc:language>
  <cp:lastModifiedBy>lrobbins</cp:lastModifiedBy>
  <dcterms:modified xsi:type="dcterms:W3CDTF">2007-08-13T16:57:29Z</dcterms:modified>
  <cp:revision>150</cp:revision>
  <dc:subject/>
  <dc:title>PowerPoint Presentation</dc:title>
</cp:coreProperties>
</file>